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17B5-ADB8-4EED-AE17-724ED2331287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BA82-2E55-409F-895A-2D23BEF10B4F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410-EE6F-4BB8-A505-21BA2C97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790-2657-4DF4-9360-5CCAD3BD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065-9FF8-46CE-AE42-4E7E2FDE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280-1BA5-44E7-B7E6-88F0369C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407-CE0C-4C9A-A6C7-47442961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23E-7B3C-44DC-B214-34B6ACE3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C15-CF2D-4E04-8687-0A088C39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5DB-AC61-4F51-B2B3-9287D2F5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0B5-A07E-4FD4-8573-CDEF4EB6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41F-2C09-41A3-91AA-614477A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560-E861-451C-A01F-1B04D786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8EA-2F27-4EE6-8A57-572BDDC8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8973-64B1-4C8D-9A4B-DB15CF0FD0F1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f.gob.pe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CuadroTexto"/>
          <p:cNvSpPr/>
          <p:nvPr/>
        </p:nvSpPr>
        <p:spPr>
          <a:xfrm>
            <a:off x="0" y="2571840"/>
            <a:ext cx="9144000" cy="16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Arial Black"/>
              </a:rPr>
              <a:t>PRESENTACION DE ESTADOS FINANCIER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Arial Black"/>
              </a:rPr>
              <a:t>PARA LA CUENTA GENERAL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Arial Black"/>
              </a:rPr>
              <a:t>DE LA REPUBLIC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Arial Black"/>
              </a:rPr>
              <a:t>PERIODO 201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2 CuadroTexto"/>
          <p:cNvSpPr/>
          <p:nvPr/>
        </p:nvSpPr>
        <p:spPr>
          <a:xfrm>
            <a:off x="4989600" y="5857920"/>
            <a:ext cx="36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EXPOSI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CPC. JORGE  BALTODANO  JARA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428760" y="214200"/>
            <a:ext cx="8500320" cy="1214280"/>
            <a:chOff x="428760" y="214200"/>
            <a:chExt cx="8500320" cy="1214280"/>
          </a:xfrm>
        </p:grpSpPr>
        <p:grpSp>
          <p:nvGrpSpPr>
            <p:cNvPr id="51" name="Group 6"/>
            <p:cNvGrpSpPr/>
            <p:nvPr/>
          </p:nvGrpSpPr>
          <p:grpSpPr>
            <a:xfrm>
              <a:off x="428760" y="214200"/>
              <a:ext cx="1089720" cy="1213920"/>
              <a:chOff x="428760" y="214200"/>
              <a:chExt cx="1089720" cy="1213920"/>
            </a:xfrm>
          </p:grpSpPr>
          <p:pic>
            <p:nvPicPr>
              <p:cNvPr id="52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428760" y="412200"/>
                <a:ext cx="108972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WordArt 8"/>
              <p:cNvSpPr txBox="1"/>
              <p:nvPr/>
            </p:nvSpPr>
            <p:spPr>
              <a:xfrm>
                <a:off x="531720" y="214200"/>
                <a:ext cx="823680" cy="3963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6021720" y="249120"/>
              <a:ext cx="2907360" cy="1179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irección Nacional d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abilidad Públic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3287160" y="249120"/>
              <a:ext cx="2643480" cy="11793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Ministerio d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conomía y Finanza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1548360" y="249120"/>
              <a:ext cx="1664640" cy="117936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 algn="ctr"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CuadroTexto"/>
          <p:cNvSpPr/>
          <p:nvPr/>
        </p:nvSpPr>
        <p:spPr>
          <a:xfrm>
            <a:off x="285840" y="214200"/>
            <a:ext cx="8501040" cy="6182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RESOLUCION DIRECTORAL  Nº 018 – 2010 – EF/93.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 Black"/>
              </a:rPr>
              <a:t>(Diario Oficial El Peruano 15 -12 – 2010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                        </a:t>
            </a: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APRUEBA LA DIRECTIVA DE CIERRE CONTABLE 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                        </a:t>
            </a: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PRESENTACION DE INFORMACION PARA  L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                        </a:t>
            </a: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ELABORACION DE LA CUENTA GENERAL  DE  L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                        </a:t>
            </a: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REPUBLICA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                        </a:t>
            </a: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VIGENCIA A PARTIR DEL EJERCICIO FISCAL 201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                         </a:t>
            </a: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DISPONE SU DIFUSION EN EL PORTAL DEL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                         </a:t>
            </a: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MINISTERIO DE ECONOMIA  Y FINANZAS 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                        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 Black"/>
                <a:hlinkClick r:id="rId1"/>
              </a:rPr>
              <a:t>http://www.mef.gob.pe</a:t>
            </a: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                         </a:t>
            </a: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UNIFICA EN UNA SOLA  DIRECTIVA LA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                         </a:t>
            </a: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MODIFICACIONES  EFECTUADAS 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                           </a:t>
            </a:r>
            <a:r>
              <a:rPr b="0" lang="es-ES" sz="1600" spc="-1" strike="noStrike">
                <a:solidFill>
                  <a:srgbClr val="000099"/>
                </a:solidFill>
                <a:latin typeface="Arial Black"/>
              </a:rPr>
              <a:t>LA DIRECTIVA Nº 006-2007-EF/93.01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4 Flecha derecha"/>
          <p:cNvSpPr/>
          <p:nvPr/>
        </p:nvSpPr>
        <p:spPr>
          <a:xfrm>
            <a:off x="785880" y="1428840"/>
            <a:ext cx="121428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5 Flecha derecha"/>
          <p:cNvSpPr/>
          <p:nvPr/>
        </p:nvSpPr>
        <p:spPr>
          <a:xfrm>
            <a:off x="857160" y="2500200"/>
            <a:ext cx="114300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 Flecha derecha"/>
          <p:cNvSpPr/>
          <p:nvPr/>
        </p:nvSpPr>
        <p:spPr>
          <a:xfrm>
            <a:off x="857160" y="3429000"/>
            <a:ext cx="114300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7 Flecha derecha"/>
          <p:cNvSpPr/>
          <p:nvPr/>
        </p:nvSpPr>
        <p:spPr>
          <a:xfrm>
            <a:off x="857160" y="4214880"/>
            <a:ext cx="114300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3"/>
          <p:cNvGrpSpPr/>
          <p:nvPr/>
        </p:nvGrpSpPr>
        <p:grpSpPr>
          <a:xfrm>
            <a:off x="2571840" y="1000080"/>
            <a:ext cx="4785840" cy="4786200"/>
            <a:chOff x="2571840" y="1000080"/>
            <a:chExt cx="4785840" cy="4786200"/>
          </a:xfrm>
        </p:grpSpPr>
        <p:pic>
          <p:nvPicPr>
            <p:cNvPr id="63" name="Picture 4" descr="peru"/>
            <p:cNvPicPr/>
            <p:nvPr/>
          </p:nvPicPr>
          <p:blipFill>
            <a:blip r:embed="rId1"/>
            <a:stretch/>
          </p:blipFill>
          <p:spPr>
            <a:xfrm>
              <a:off x="2571840" y="1000080"/>
              <a:ext cx="478584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5"/>
            <p:cNvSpPr/>
            <p:nvPr/>
          </p:nvSpPr>
          <p:spPr>
            <a:xfrm>
              <a:off x="2999880" y="19029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Arial Black"/>
                </a:rPr>
                <a:t>TUMB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 Box 2"/>
          <p:cNvSpPr/>
          <p:nvPr/>
        </p:nvSpPr>
        <p:spPr>
          <a:xfrm>
            <a:off x="0" y="0"/>
            <a:ext cx="9144000" cy="672840"/>
          </a:xfrm>
          <a:prstGeom prst="rect">
            <a:avLst/>
          </a:prstGeom>
          <a:solidFill>
            <a:srgbClr val="00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L SISTEMA NACIONAL DE CONTABI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428840" y="5357880"/>
            <a:ext cx="6286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s-MX" sz="1500" spc="-1" strike="noStrike">
                <a:solidFill>
                  <a:srgbClr val="000099"/>
                </a:solidFill>
                <a:latin typeface="Arial"/>
              </a:rPr>
              <a:t>ARTÍCULO 3</a:t>
            </a:r>
            <a:r>
              <a:rPr b="1" lang="es-MX" sz="19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l Sistema Nacional de Contabilidad es el conjunto de políticas, principios, normas y procedimientos contables aplicados en los sectores público y privad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368360" y="738360"/>
            <a:ext cx="637056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Y GENERAL DEL SISTEMA NACIONAL DE              CONTABILIDAD  LEY Nº 2870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1643040"/>
            <a:ext cx="307188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99"/>
                </a:solidFill>
                <a:latin typeface="Arial"/>
              </a:rPr>
              <a:t>ARTÍCULO 1.- OBJETO DE LA LEY 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Establecer el marco legal para dictar y aprobar normas y procedimientos que permitan armonizar la información contable de las entidades del sector público y del sector privado, así como, para elaborar las cuentas nacionales, la Cuenta General de la República, las cuentas fiscales y efectuar el planeamiento que correspond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500880" y="2143080"/>
            <a:ext cx="264312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99"/>
                </a:solidFill>
                <a:latin typeface="Arial"/>
              </a:rPr>
              <a:t>ARTÍCULO 2.- ÁMBITO DE APLICACIÓ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 presente Ley es aplicable a todas las entidades del sector público y al sector privado, en lo que les     correspond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800"/>
                            </p:stCondLst>
                            <p:childTnLst>
                              <p:par>
                                <p:cTn id="130" nodeType="afterEffect" fill="hold" presetClass="emph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str">
                                      <p:cBhvr additive="repl"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9144000" cy="672840"/>
          </a:xfrm>
          <a:prstGeom prst="rect">
            <a:avLst/>
          </a:prstGeom>
          <a:solidFill>
            <a:srgbClr val="00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LA CONTABILIDAD GUBERN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digitador[1]"/>
          <p:cNvPicPr/>
          <p:nvPr/>
        </p:nvPicPr>
        <p:blipFill>
          <a:blip r:embed="rId1"/>
          <a:stretch/>
        </p:blipFill>
        <p:spPr>
          <a:xfrm>
            <a:off x="152280" y="4363920"/>
            <a:ext cx="1222560" cy="1121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6000840" y="9288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ÁLISIS DE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5428800" y="820800"/>
            <a:ext cx="2714400" cy="3988440"/>
            <a:chOff x="5428800" y="820800"/>
            <a:chExt cx="2714400" cy="3988440"/>
          </a:xfrm>
        </p:grpSpPr>
        <p:sp>
          <p:nvSpPr>
            <p:cNvPr id="74" name="Line 6"/>
            <p:cNvSpPr/>
            <p:nvPr/>
          </p:nvSpPr>
          <p:spPr>
            <a:xfrm flipV="1">
              <a:off x="7092000" y="3570480"/>
              <a:ext cx="1051200" cy="123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7"/>
            <p:cNvSpPr/>
            <p:nvPr/>
          </p:nvSpPr>
          <p:spPr>
            <a:xfrm flipH="1" flipV="1">
              <a:off x="5428800" y="820800"/>
              <a:ext cx="1695240" cy="396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 Box 8"/>
          <p:cNvSpPr/>
          <p:nvPr/>
        </p:nvSpPr>
        <p:spPr>
          <a:xfrm>
            <a:off x="1838160" y="5084640"/>
            <a:ext cx="5918400" cy="13726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DENTIFICACIÓN Y VALUACIÓN DE LOS HECHOS ECONÓM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GISTRO Y PROCESA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ISIÓN DE INFORM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MUNICACIÓN A LOS AGENTES ECONÓMICOS PARA LA TO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 DECISIONES IDÓNEA Y OPORTU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ANÁLISIS, AUDITORIA Y CONTR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2428920" y="642960"/>
            <a:ext cx="4572000" cy="4314600"/>
            <a:chOff x="2428920" y="642960"/>
            <a:chExt cx="4572000" cy="4314600"/>
          </a:xfrm>
        </p:grpSpPr>
        <p:sp>
          <p:nvSpPr>
            <p:cNvPr id="78" name="AutoShape 10"/>
            <p:cNvSpPr/>
            <p:nvPr/>
          </p:nvSpPr>
          <p:spPr>
            <a:xfrm>
              <a:off x="2428920" y="642960"/>
              <a:ext cx="4572000" cy="4286160"/>
            </a:xfrm>
            <a:prstGeom prst="triangle">
              <a:avLst>
                <a:gd name="adj" fmla="val 50000"/>
              </a:avLst>
            </a:prstGeom>
            <a:solidFill>
              <a:srgbClr val="ffff99">
                <a:alpha val="50000"/>
              </a:srgbClr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3286080" y="3339720"/>
              <a:ext cx="2857680" cy="45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 Box 13"/>
            <p:cNvSpPr/>
            <p:nvPr/>
          </p:nvSpPr>
          <p:spPr>
            <a:xfrm>
              <a:off x="3193920" y="3490560"/>
              <a:ext cx="30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Sistema Informativo Contab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 Box 14"/>
            <p:cNvSpPr/>
            <p:nvPr/>
          </p:nvSpPr>
          <p:spPr>
            <a:xfrm>
              <a:off x="4800600" y="3722400"/>
              <a:ext cx="19648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500" spc="-1" strike="noStrike">
                  <a:solidFill>
                    <a:srgbClr val="000000"/>
                  </a:solidFill>
                  <a:latin typeface="Arial"/>
                </a:rPr>
                <a:t>Documentos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500" spc="-1" strike="noStrike">
                  <a:solidFill>
                    <a:srgbClr val="000000"/>
                  </a:solidFill>
                  <a:latin typeface="Arial"/>
                </a:rPr>
                <a:t>Registra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500" spc="-1" strike="noStrike">
                  <a:solidFill>
                    <a:srgbClr val="000000"/>
                  </a:solidFill>
                  <a:latin typeface="Arial"/>
                </a:rPr>
                <a:t>Procesa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500" spc="-1" strike="noStrike">
                  <a:solidFill>
                    <a:srgbClr val="000000"/>
                  </a:solidFill>
                  <a:latin typeface="Arial"/>
                </a:rPr>
                <a:t>Emite Información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500" spc="-1" strike="noStrike">
                  <a:solidFill>
                    <a:srgbClr val="000000"/>
                  </a:solidFill>
                  <a:latin typeface="Arial"/>
                </a:rPr>
                <a:t>Comunica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15"/>
            <p:cNvSpPr/>
            <p:nvPr/>
          </p:nvSpPr>
          <p:spPr>
            <a:xfrm>
              <a:off x="4029120" y="2608200"/>
              <a:ext cx="1839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16"/>
            <p:cNvSpPr/>
            <p:nvPr/>
          </p:nvSpPr>
          <p:spPr>
            <a:xfrm>
              <a:off x="3714840" y="2071440"/>
              <a:ext cx="1928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ALT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IRECC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AutoShape 17"/>
          <p:cNvSpPr/>
          <p:nvPr/>
        </p:nvSpPr>
        <p:spPr>
          <a:xfrm flipH="1" rot="771000">
            <a:off x="3263760" y="3968280"/>
            <a:ext cx="1524240" cy="304920"/>
          </a:xfrm>
          <a:custGeom>
            <a:avLst/>
            <a:gdLst>
              <a:gd name="textAreaLeft" fmla="*/ 267120 w 1524240"/>
              <a:gd name="textAreaRight" fmla="*/ 1105560 w 152424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18"/>
          <p:cNvSpPr/>
          <p:nvPr/>
        </p:nvSpPr>
        <p:spPr>
          <a:xfrm rot="1351800">
            <a:off x="3492360" y="4578120"/>
            <a:ext cx="1067040" cy="22860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19"/>
          <p:cNvSpPr/>
          <p:nvPr/>
        </p:nvSpPr>
        <p:spPr>
          <a:xfrm rot="200400">
            <a:off x="693720" y="3981240"/>
            <a:ext cx="2654280" cy="4856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24000" y="14526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L PROCE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CON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1" descr="empresarios02[1]"/>
          <p:cNvPicPr/>
          <p:nvPr/>
        </p:nvPicPr>
        <p:blipFill>
          <a:blip r:embed="rId2"/>
          <a:stretch/>
        </p:blipFill>
        <p:spPr>
          <a:xfrm>
            <a:off x="7072200" y="2000160"/>
            <a:ext cx="185760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2859120" y="2986200"/>
            <a:ext cx="3505320" cy="1752480"/>
            <a:chOff x="2859120" y="2986200"/>
            <a:chExt cx="3505320" cy="1752480"/>
          </a:xfrm>
        </p:grpSpPr>
        <p:sp>
          <p:nvSpPr>
            <p:cNvPr id="90" name="Oval 3"/>
            <p:cNvSpPr/>
            <p:nvPr/>
          </p:nvSpPr>
          <p:spPr>
            <a:xfrm>
              <a:off x="2859120" y="2986200"/>
              <a:ext cx="3505320" cy="17524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WordArt 4"/>
            <p:cNvSpPr txBox="1"/>
            <p:nvPr/>
          </p:nvSpPr>
          <p:spPr>
            <a:xfrm>
              <a:off x="3249720" y="3197160"/>
              <a:ext cx="2581200" cy="122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LUJO DE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NFORMACIÓN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NTABLE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2" name="Oval 5"/>
          <p:cNvSpPr/>
          <p:nvPr/>
        </p:nvSpPr>
        <p:spPr>
          <a:xfrm>
            <a:off x="3468600" y="907920"/>
            <a:ext cx="221004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 Black"/>
              </a:rPr>
              <a:t>CLASIFICAD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 Black"/>
              </a:rPr>
              <a:t>DE PRESUPUES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 Black"/>
              </a:rPr>
              <a:t>Y PLAN 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 Black"/>
              </a:rPr>
              <a:t>CUENTA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6"/>
          <p:cNvSpPr/>
          <p:nvPr/>
        </p:nvSpPr>
        <p:spPr>
          <a:xfrm>
            <a:off x="6973920" y="3138480"/>
            <a:ext cx="2133720" cy="1523880"/>
          </a:xfrm>
          <a:prstGeom prst="ellipse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REGISTRA 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PROC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7"/>
          <p:cNvSpPr/>
          <p:nvPr/>
        </p:nvSpPr>
        <p:spPr>
          <a:xfrm>
            <a:off x="39600" y="3138480"/>
            <a:ext cx="2057400" cy="12952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 Black"/>
              </a:rPr>
              <a:t>PRINCIPIOS 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 Black"/>
              </a:rPr>
              <a:t>GENERALMENT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 Black"/>
              </a:rPr>
              <a:t>ACEPTAD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8"/>
          <p:cNvSpPr/>
          <p:nvPr/>
        </p:nvSpPr>
        <p:spPr>
          <a:xfrm>
            <a:off x="1487520" y="4967280"/>
            <a:ext cx="19051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Arial Black"/>
              </a:rPr>
              <a:t>ANÁLIS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Arial Black"/>
              </a:rPr>
              <a:t>EVALUACIÓ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Arial Black"/>
              </a:rPr>
              <a:t>Y CONTRO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9"/>
          <p:cNvSpPr/>
          <p:nvPr/>
        </p:nvSpPr>
        <p:spPr>
          <a:xfrm>
            <a:off x="5526000" y="5022720"/>
            <a:ext cx="1981440" cy="13716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Arial Black"/>
              </a:rPr>
              <a:t>REPORT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Arial Black"/>
              </a:rPr>
              <a:t>FINANCIER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Arial Black"/>
              </a:rPr>
              <a:t>PRESUPUESTAL</a:t>
            </a:r>
            <a:r>
              <a:rPr b="0" lang="es-MX" sz="1500" spc="-1" strike="noStrike">
                <a:solidFill>
                  <a:srgbClr val="000000"/>
                </a:solidFill>
                <a:latin typeface="Arial Black"/>
              </a:rPr>
              <a:t>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4535640" y="2265480"/>
            <a:ext cx="0" cy="5713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2249640" y="374796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6364440" y="374796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5526000" y="4586400"/>
            <a:ext cx="381240" cy="3808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3239640" y="4586400"/>
            <a:ext cx="304920" cy="3808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15"/>
          <p:cNvSpPr/>
          <p:nvPr/>
        </p:nvSpPr>
        <p:spPr>
          <a:xfrm flipV="1">
            <a:off x="1563840" y="1842840"/>
            <a:ext cx="1904760" cy="1143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5602320" y="1843200"/>
            <a:ext cx="1600200" cy="12189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7"/>
          <p:cNvSpPr/>
          <p:nvPr/>
        </p:nvSpPr>
        <p:spPr>
          <a:xfrm flipH="1">
            <a:off x="7125840" y="4586400"/>
            <a:ext cx="381240" cy="3808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3544920" y="5576760"/>
            <a:ext cx="182880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1639800" y="4433760"/>
            <a:ext cx="381240" cy="609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-36360" y="1312920"/>
            <a:ext cx="319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ONTABILIDA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GESTIÓN 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0" y="0"/>
            <a:ext cx="9144000" cy="672840"/>
          </a:xfrm>
          <a:prstGeom prst="rect">
            <a:avLst/>
          </a:prstGeom>
          <a:solidFill>
            <a:srgbClr val="00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LA CONTABILIDAD GUBERN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9144000" cy="672840"/>
          </a:xfrm>
          <a:prstGeom prst="rect">
            <a:avLst/>
          </a:prstGeom>
          <a:solidFill>
            <a:srgbClr val="00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LA CONTABILIDAD GUBERN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3"/>
          <p:cNvSpPr/>
          <p:nvPr/>
        </p:nvSpPr>
        <p:spPr>
          <a:xfrm rot="21498600">
            <a:off x="394920" y="1422000"/>
            <a:ext cx="685800" cy="685800"/>
          </a:xfrm>
          <a:prstGeom prst="pi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1214280" y="714240"/>
            <a:ext cx="3214800" cy="221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TABILI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GUBERNAM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4429080" y="1625400"/>
            <a:ext cx="600120" cy="4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2286000" y="3643200"/>
            <a:ext cx="178596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003640" y="836640"/>
            <a:ext cx="381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junto de normas, principios y procedimientos técnicos, dispuestos  para recopilar, medir, elaborar, </a:t>
            </a:r>
            <a:br>
              <a:rPr sz="1600"/>
            </a:b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trolar e informar todos los</a:t>
            </a:r>
            <a:br>
              <a:rPr sz="1600"/>
            </a:b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gresos, gastos, costos y otras operaciones del Estado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79280" y="2714760"/>
            <a:ext cx="225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tegral y aplicable a los organismos del sector público (Por la DNC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067280" y="3429000"/>
            <a:ext cx="456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ntidades elaboran Estados Financieros,  Presupuestarios y Anexos  (Cuenta Genera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1332000" y="3645000"/>
            <a:ext cx="573120" cy="1450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979640" y="5200560"/>
            <a:ext cx="32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labora  estados consolidad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tuación Presupuesta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tuación Financi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tuación Patrimon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tadística contable fisc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835280" y="3894120"/>
            <a:ext cx="56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0"/>
            <a:ext cx="9144000" cy="672840"/>
          </a:xfrm>
          <a:prstGeom prst="rect">
            <a:avLst/>
          </a:prstGeom>
          <a:solidFill>
            <a:srgbClr val="00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LA CONTABILIDAD GUBERN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42960" y="642960"/>
            <a:ext cx="8358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omponentes del Sistema de  Contabilidad Guberna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57120" y="1500120"/>
            <a:ext cx="4429080" cy="785880"/>
          </a:xfrm>
          <a:prstGeom prst="rect">
            <a:avLst/>
          </a:prstGeom>
          <a:solidFill>
            <a:srgbClr val="dce6f2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a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Hechos económic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357800" y="4714920"/>
            <a:ext cx="4286160" cy="857160"/>
          </a:xfrm>
          <a:prstGeom prst="rect">
            <a:avLst/>
          </a:prstGeom>
          <a:solidFill>
            <a:srgbClr val="d9d9d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enta General de la Repúbl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857760" y="3643200"/>
            <a:ext cx="4000320" cy="857520"/>
          </a:xfrm>
          <a:prstGeom prst="rect">
            <a:avLst/>
          </a:prstGeom>
          <a:solidFill>
            <a:srgbClr val="93cddd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forma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Oportuna, útil, confi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3857760"/>
            <a:ext cx="3786120" cy="285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mentos 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octrina contab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Principios. norma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cedimiento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lan de cuent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143000" y="2500200"/>
            <a:ext cx="5143680" cy="1000080"/>
          </a:xfrm>
          <a:prstGeom prst="rect">
            <a:avLst/>
          </a:prstGeom>
          <a:solidFill>
            <a:srgbClr val="ebf1de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ocumentos Fuente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Libros, registro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ormularios, estados contabl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786200" y="5786280"/>
            <a:ext cx="4000680" cy="857520"/>
          </a:xfrm>
          <a:prstGeom prst="rect">
            <a:avLst/>
          </a:prstGeom>
          <a:solidFill>
            <a:srgbClr val="fdeada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orme Ejecutivo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2214360"/>
            <a:ext cx="8091720" cy="19285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99"/>
                </a:solidFill>
                <a:latin typeface="Arial Black"/>
              </a:rPr>
              <a:t>CUENTA GENERAL DE LA REPÚBLICA</a:t>
            </a:r>
            <a:r>
              <a:rPr b="1" lang="es-ES" sz="34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Elipse"/>
          <p:cNvSpPr/>
          <p:nvPr/>
        </p:nvSpPr>
        <p:spPr>
          <a:xfrm>
            <a:off x="500040" y="571680"/>
            <a:ext cx="7786800" cy="5786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2060"/>
                </a:solidFill>
                <a:latin typeface="Arial Narrow"/>
              </a:rPr>
              <a:t>Instrumento de Gestión Públic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2060"/>
                </a:solidFill>
                <a:latin typeface="Arial Narrow"/>
              </a:rPr>
              <a:t>Contiene:  información y análisis de  resultados Presupuestarios  -  Financie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2060"/>
                </a:solidFill>
                <a:latin typeface="Arial Narrow"/>
              </a:rPr>
              <a:t>Económicos - Patrimonia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2060"/>
                </a:solidFill>
                <a:latin typeface="Arial Narrow"/>
              </a:rPr>
              <a:t>y Cumplimiento de metas e indicadores de gestión financiera en la actuación de las entidades del sector público durante el ejercicio fiscal e incluye información de Deuda Pública, de Tesorería, de Inversión Pública y de Gasto Social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0:42:43Z</dcterms:created>
  <dc:creator>PC</dc:creator>
  <dc:description/>
  <dc:language>en-US</dc:language>
  <cp:lastModifiedBy>Lenovo User</cp:lastModifiedBy>
  <dcterms:modified xsi:type="dcterms:W3CDTF">2010-12-16T20:35:01Z</dcterms:modified>
  <cp:revision>90</cp:revision>
  <dc:subject/>
  <dc:title>Diapositiva 1</dc:title>
</cp:coreProperties>
</file>